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652913-DC8C-42E9-8728-B7427178F60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27214E-AEFC-4F13-91A9-DCF4DAC1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D6B9CC-127B-4006-9EDA-C9192D3C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9A7C8A-0E7E-4B2B-97D7-54F237C6D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965727-12A6-4707-A3CA-614F34673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FFC48A-83E4-4E52-BBD5-F0A4C5A9D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6BC60D-7205-4F9F-A862-58900FA0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3C5646-E91D-451E-B975-48D0F0298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7C2689-5398-41DF-B4BA-E9667AD5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C1F4DF-7343-41A0-8861-C4C889998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12394AA-7FA7-4E1A-A18E-239CE5438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56FE95-EA02-4608-88EB-FB37EBF39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99384C-6C9C-4111-834B-8FD3316E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C213AE-8D79-4FCD-9F03-C5B91B396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F0469A-5524-4527-A99F-55A07D595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303A25-70A0-4424-9BC8-E91E6F872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0950E6-2323-45AE-ADF4-42F8216DE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BE81AC-E387-4C94-BC3E-C357DFB50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06BBE2-1110-4DDC-8996-0D24A070F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756AF7-9FA7-4A28-969B-531D828FB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0D07E1-F638-414E-B1B8-DAC6CC5A8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DA6294-D6E2-45DF-9929-9A71A4E2A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AFCD9E-8C76-4BAF-B014-61C6D2F51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E0661C-18DF-4641-AADB-7C2FD56B9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EB9E58-556D-4749-8A7C-B26002546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54BA92-3280-4F5E-94E9-D07B5CE0D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6480E0-08EB-4679-822B-2A819A809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6E3276-4BC0-4B66-B49A-9071C2A1E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F7172C-7E3E-4541-9A08-EFF311D2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028F156-0DAC-4300-83EE-DBE319FD1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F4DA3A-D851-41E0-B43A-747F62F2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ED75B2-7592-42EE-A7B2-1B593C9EA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and Cover Pages Blue-to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962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Franklin Gothic Book"/>
              </a:rPr>
              <a:t>Personal Health Information Act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201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8. Obtaining Cons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Implied consent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etween certain healthcare providers treating a patient 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the “circle of ca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Express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ertain specific disclosures are permitted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without consent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for authorized health research, where ethics approval is obtain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bility of patients to provide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limit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9. Collection &amp; Us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llect only as much information as needed for the purpose of the col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llect directly from the person who is the subject of th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nly use personal health information for the purpose for which it was coll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ranklin Gothic Book"/>
              </a:rPr>
              <a:t>BREA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0.  Disclosur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occur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th an individual’s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ere PHIA specifically authorizes a disclosure of the information without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minimum amount of PHI necessary to achieve purpose of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1. Access &amp; Corr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individual has the right to access their personal health information with some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identifies the process and tim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identifies the responsibilities of custodians respecting access &amp; correction of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2. Prot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establish policies and procedures to protect the personal health information in their custody or contro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must take steps that are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reasonable in the circumstanc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to ensure that personal health information is protec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3. Privacy Breach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eople who violate the 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be fined $10,000 fi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face six (6) months in prison where a person willfully 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intentionally) contravenes a provision of PHI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4. Other Provis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ffice of the Information and Privacy Commissioner (powers, responsibilities, &amp; accountabil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egislativ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ivil liability (“good fait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mpliance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5. Discus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 your expectations with the new 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ere do you think will be the greatest effects from this new legis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f you have questions or concerns, how might you address the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6. Conclu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egislation lays the foundation and mandates poli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rganizations develop policy to guide employees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combine privacy principles with bes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mployees support culture of privacy and protection of PH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Assessm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do you know about priv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you give an example of a privacy brea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 some concerns about priv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anklin Gothic Book"/>
              </a:rPr>
              <a:t>LUNCH BREA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7. Scenario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8. PHIA Resourc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Risk Management Tool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Policy Development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Online Training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Franklin Gothic Book"/>
              </a:rPr>
              <a:t>Brea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9. Implementing PHI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reating &amp; supporting a culture of priv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Developing &amp; implementing policy for you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ddressing concer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0. Privacy Cultur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will you create a culture of privacy in your org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 you doing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else do you need to meet the obligations of 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1. Developing Polic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will you develop new policies supporting privacy and protection of health information in your org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policies do you have in place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as are miss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else do you need to meet the obligation of PH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2. Addressing concer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will you hear about concer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will you help staff deal with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do you need to meet the obligations of the 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3. Conclu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tart now on creating a culture of privacy in you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nderstand your role and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available resources and tools to achieve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4. Refl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ead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is the most important thing you learned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eart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do you feel about what you learned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ands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will you share with your coworkers about your experience here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Feet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have you learned that you can put into practice right a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1. 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btaining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llecting &amp; using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isclosing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ess &amp; correction of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urity of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ther provisions in the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25. Contact Inform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r more information about PHIA, please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employer or supervi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profession’s regulatory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legal coun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2.  A New Approach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PHIA is a new way of thinking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HIA is concerned with the protection of personal health information (PHI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HIA applies to custodians involved in the delivery of health care services in bo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sectors in Newfoundland and Labrad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We all have a responsibility to understand the importance of keeping certain information confidenti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3. Culture of Privac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mmunicate key mess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articipate in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pect reporting process for bre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uilds privacy into service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kes privacy information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4.  Why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o create a culture of privacy that suppor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5.  Wha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provides rules for the collection, use and disclosure of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personal health inform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ersonal health information is identifiable information about physical and mental health, family history, organ donation, insurance coverage, and pr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t can be in either oral or recorded 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6.  Roles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ustodi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Information mana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Recipient of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mploy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7.  Responsibiliti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pect the organization’s oath of confidenti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nderstand how the organization’s information policies are implem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upport the creation of a culture of privacy in the organ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articipate in education about privacy and protection of person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43:07Z</dcterms:created>
  <dc:creator>User</dc:creator>
  <dc:description/>
  <dc:language>en-US</dc:language>
  <cp:lastModifiedBy>BrianDBennett</cp:lastModifiedBy>
  <cp:lastPrinted>2010-09-03T17:05:45Z</cp:lastPrinted>
  <dcterms:modified xsi:type="dcterms:W3CDTF">2010-09-22T12:38:44Z</dcterms:modified>
  <cp:revision>82</cp:revision>
  <dc:subject/>
  <dc:title>PHIA: The Personal Health Information Act  November, 2009</dc:title>
</cp:coreProperties>
</file>